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7B0-FFF0-4C27-A5C8-13777F05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050-3229-4A63-B5DC-FEC97552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22183-2D46-4022-84CA-E4F0AD0E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76FD6-1215-4CB5-A349-6444A64D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1D450-6D60-49FA-B0E9-0598FEDE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3554D-28CD-422A-86E3-F570633B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C0868-608C-43EB-890D-7206147D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CC765-C29C-4C9B-8F89-DD9323B5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DC518-A7CA-4AB2-A007-9378E40F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84F25-24AF-423A-BAA7-4B92FB50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E6857-986B-477E-B908-3AF5C03D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9E082-DD78-4A28-AA2E-9DDB8832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AD4-4F64-4A0E-88F0-DBF862AF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51D72-78B2-4BA1-AAC9-1086F650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2DA43-954F-46A9-B5B9-87F3E833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08DB2-9764-4F24-8164-BC819A1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890C3-62F9-4D88-B2F8-8B8CF956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65EA9-7938-4128-93BC-72DCD024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9A62A-1EB3-42ED-84BC-A5C87177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1F13E-CB39-48BB-9AEC-C59A9604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65139-29A5-44D8-A6FD-D6015F9E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32D5E-05CC-444B-BD3A-287F7F57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BF936-D0AC-4B58-9159-65BDF902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3C1-184E-4461-A8F5-31D53EBE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03B39-5D63-4ECF-AE1E-F145B1A4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7A8B9-3C8F-47B8-91F2-5FF133F6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83ED8-EB29-4FF1-9E2D-3C2EF525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BF511-275D-422A-BC1D-3DDA510B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7ACAE-FFCA-480D-8D40-FA77E7A4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89185-7058-4EB0-B486-515204D0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43F67-8713-46A3-9B9B-F17FA000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3E9E4-2991-45B7-9869-E498D713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CC31A-80E7-4F23-8680-070EE098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51BB5-66EB-4471-BB72-45ABADA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E80C-5FEA-45D3-9842-EF503BF5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CA136-22D9-4DB1-AC0F-92404BAE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0B623-46C5-4B5E-B3B3-2E7E9A37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28BF3-0BF8-4225-8027-FDCDF493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77561-604E-46CE-858E-394E8042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B2419-04ED-46DC-BFCA-4DA0E25A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B3A2E-B71C-453A-93C0-78B4A65C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CF2DD-DBC4-4032-93C0-32600D32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B3FD0-7FAD-4C05-B5EE-37DF9F4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C6EDD-1B2A-4A9D-8CDF-D032572A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1E524-1EAE-40D6-A963-D4991928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50A2-68C4-420E-9D68-D4C2E3DB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04870-A310-45B9-BAF3-9664649C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4CCAD-4BF3-4F93-ADF0-02E04AF7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97741-ADDB-4FC7-BD5F-7C6C6F3C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C85E5-8199-413F-835D-045A82DC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F1EB1-F860-4D78-976C-D4BC96E0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977BD-7154-43AA-9E34-D0F0DCF9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980B5-D65E-4455-8444-2519572C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CC216-EE47-4038-AF47-6867AEA6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BEE16-1CD3-48DF-B709-5EFCD25E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772E2-71B1-4690-9BE6-1AB77058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E730-0862-4C6D-95DD-251A21CC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8B159-DC70-492A-A583-0F4E9F77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2335E-F515-4E72-8619-7D733DA0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05CFA-BFD5-463B-9158-C281668E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47336-92D4-4BE9-8AA0-D008391D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4DE7C-C078-4731-8BF3-A0863DC4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C6BC9-4BA0-45AB-8D05-3C806AF9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DE7E6-9373-441A-8E0A-AC513508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7CBC3-B8B2-4E5F-9D38-C60EBF78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09024-7B57-4DD0-ACF6-0FBD5B00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3831E-4F6A-4E5C-B040-A640C0C7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C904-FD8F-45E9-BA05-DD59C978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6C674-94F0-4AC9-A623-BB0E0B03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29CA9-CA07-4DAD-8116-046712B8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BD474-29D9-46B8-A5AF-5D85E494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EB88A-1230-453E-93B3-77D86A4A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E1DF3-94E2-41DA-9EFD-4D09E1D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3906B-4175-43AD-B073-62D4D232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26B8A-4A15-44F2-A313-2020895F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B188B-E182-449D-BBA6-E41D2117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B01B1-2BAF-43AC-B1F8-7134FE01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4AA75-BEDD-4DB4-8207-8AB531AC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8E88-FD27-497C-A767-C7DB5E6A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43A585-2DE2-4DA8-B482-4585B23C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3D6B8-34D3-489D-9F33-7E247EBF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182AC-6BCE-4B71-B8C8-2FE34999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F7107-CD49-4DE2-AFDB-E21BFD5A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D3FA6F-764C-46BA-BD3A-3EBDB431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684FA-6C80-41C4-8275-2B564A0E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098F7-90DB-4E56-997E-E73EDE39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66F8A-DA25-4D90-9E39-A6C5A4B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816F5-769C-41B6-AB93-7A6D8864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FC094-5058-4288-9F8F-74A21C0A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AE65-B508-4374-92C2-0EA0F0B4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CAC1F-DCF9-4B54-8EAD-46C1B177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06E88-A8DC-454C-92EC-6F94807E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49FB8-43FE-4AF0-ADCC-EBABD330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650208-D0E9-4BD7-87A0-DEB4CDC7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FF7A2-9428-4DCC-8C32-B2BAD68B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BA5A4-D79E-46AB-8A3E-19752096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BD1A9-43D9-4AF4-9CF0-1C738306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83A09-9419-41BB-94B5-A05FE6AB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0A052E-0358-4F00-BE43-718EF2BD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715B6-19CA-45A2-9C95-22EDD190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ABCC-7C9B-46B8-9C17-0D78F5CE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F9CC5E-30B8-4AD1-B2BB-56C66129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E0926-1C6A-41CB-B16F-CBE8DB4D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45930-C424-40CC-9654-964CCE45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1D821-9FC2-4575-9010-DD9AF982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029B5-1856-4960-BAFF-4B3F4052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CA1DAD-2039-486D-9D83-5BE00F9C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9D030E-22FD-40A2-8B13-3B4BFEEC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299B5-7523-4FD4-8DD3-7EBEC161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DD682F-6C33-4269-BE85-2F1E3916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6A1BA-1C69-4E9A-A36E-A061EB4C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84C-025E-436A-923E-5BF18F3C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4A88-1983-4AE4-8D03-44985834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29106-5E60-405D-AB2F-BA79CB5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4C4695-3A9A-4636-9963-3B667261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5C87C-9244-4AF0-BDBF-703466B9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A2AF8-3C29-472F-84FB-0542CF1E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CFB06-8BA0-49BF-B374-233DA71E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0ECD7-3139-4B77-9D84-EA537928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F98AA-619A-4DB6-A7A4-5DCA3E30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57BD3-5476-4921-AA17-5BFBED82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0A87FB-DC0C-41EE-917C-C4CBED8A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9DB03-4597-4A92-8329-C864E6E9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F200-1F9C-4DC5-9484-F078A361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49C23-FC92-44E9-8E9E-3E21DFD5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7F300C-7583-4B7A-B289-B52BF41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37EDA-E27F-4435-AB3D-F0784303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6B3CF-CDE2-454B-908B-50CAD2DB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AA1ED-2196-42E4-A635-286A29C5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5D8DE-CE50-4D7B-8D5D-427AD09E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6E9B02-B120-491B-952F-DE26A636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F81922-C683-4AB9-9932-DD078298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8E427E-AF9F-4F21-A771-1EAD46EA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D09805-217B-451D-A590-C764AB2E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9809-6B49-4A95-B468-9F087C5A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8881A-57DD-4E80-9D17-BBF84265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D11C86-3D1C-4349-B668-FCC17718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E9F1F9-7256-43A3-932F-60B12150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FF2D50-E441-4238-B39F-671449A6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7665CD-FD62-403A-8F2F-04D98E15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A873B-E16D-49A3-9AEE-C8C0E27F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DC2E60-D0CF-4999-9424-A1EA4663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D1CBF1-B0BB-42C1-A361-576974E8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5C7D49-C764-4E6C-8AC9-32BF3286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3AB5A-E0BE-47DD-AD9F-CED1FB86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342A-B11A-485D-B27F-A0F5E44C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2E1478-3D88-42DB-8265-17A4FD06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2891F1-A227-452B-8931-E8ADC30B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1D0C38-A7D4-400A-93F1-08D46976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72B174-3126-4974-B3E5-C79D008E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32D68-5E6D-410D-8486-97BA5D3D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E819FF-E842-4801-B188-60185902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91361E-3353-4C49-8F22-6C315E17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A6CAD7-35E2-4CB3-B8CC-B42D7B6C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BA326-9785-48E9-BEF1-EDD8A786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BA1AD-97E9-43D8-94D8-C8F81762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6D7F-C806-43C5-B6ED-2E30020E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9B0657-6435-433C-B930-7AF69BB8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6E2C6-A072-471B-96E3-5143FD33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394BA3-B3C9-4380-9549-22B3920B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189CB8-A749-4166-B08D-433059FC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77CAD4-A3CD-44FB-BB9B-DD02A34B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ADF91-2A05-4E00-A0A8-2A0B0AF3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4BAA27-23E5-49DA-9AFF-DF572F50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220A58-FCF3-409F-B911-FA097A4D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8C685E-515D-466A-9407-38B1A472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BD9A87-72E5-4753-B5AA-36F1246E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2983B-F7F3-4265-B336-D516D4C1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9E477A-110C-4139-AE93-152F1017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18A425-3C94-48C2-8B14-A278016C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5F2AB0-150F-4BF8-9CC1-6A1C3F9E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6D3E-BCBB-46D5-9E49-CE373831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32BF-C8B5-4DF7-93A5-8812C1FA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6EACF-25AB-4960-9494-7100FF17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E4A1-BF36-4A99-9E7C-758F2B53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45F-CB27-4E8F-94E6-EBE14B32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9E1F8-D42C-4910-8702-6A434120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2D82-0A66-4B33-988C-2A3BEAAB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2987A-093A-421C-A389-C3AE1FC8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730A-0FCA-4228-9FAD-C7FA6849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5B5D-215B-49B0-A171-65B47F49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A1DF-6ACC-4A92-A943-6AF71C6C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E5F1-0A0B-42B0-AE8E-E838B5CD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BB7A9-76F7-4C3D-8F73-E400BBBF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0B6E4-CE9D-4546-88D9-D5075CF8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5EE8-4BB3-4177-85BC-35FBF059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65C-9C44-47F9-ACEB-A2423940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F3E2E-ED14-415F-B761-B54B127C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D3038-7BC4-4A9B-84BE-773F9E6E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4BE8-F4C2-44C1-B4D0-B2F89E23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FF771-9BA9-4542-AF41-5E1CCCA5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59CD-C9F9-46D6-8F78-55A2C8CD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37BE-B968-4247-867B-35F2D2E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19FB-A02E-4843-B0BE-39E0714A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8405-5123-491B-B15A-3277EDC3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226D4-D779-41D7-9CEA-BAF51F99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26469-E16E-4EBF-9F21-626AE6FA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434-CCB1-47F9-B319-A70E5E2F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94B4E-08EA-4DA6-8180-3792A2FA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C32B-F826-4CCA-B561-06C11A09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20511-D47F-4898-BF87-8CD3505A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720AA-6A54-4797-98D9-07AEA8AE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B0211-C192-4CBC-873D-6BC77D3B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7C36F-3E33-4835-9A4B-0FDD3DE4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A68A-2B37-4F38-9652-F1161D7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C005A-8E8E-449E-A65D-A092CEE6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AEF95-18FF-40E5-86A2-61E4D89E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888C3-CEB3-436F-9FCB-5968641F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641-3BC0-42FB-BA10-8DC8D07E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B5600-F6CB-4725-AE88-56A1BE57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33470-AC88-4C4C-B60D-156BB5A7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FD91-807E-4C6A-88CB-3B184FE9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29944-516E-4C15-844F-F3870644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95084-EA68-42CB-8FC4-C4A393CD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02029-C6CC-43D5-812C-4B57F449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C2328-1090-40AE-A4FD-528CB408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F3E2B-7D97-4F1C-955B-5BEC228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67A37-3CB0-4C6C-86F4-77D46A52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E876-E02E-47E2-A890-EB5939C3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61B-AB75-4367-9E76-279DB5CC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0A1C2-D8A3-4EE0-A7C5-AF1F0E35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6CA2E-4CAC-45D5-9CD1-3D1DA8C9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4505C-92F5-4A5C-96BD-8DBC59CD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BAFE8-B895-4701-9BDE-7281E3AB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DA059-6DA0-4631-89A3-A3B1362C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019EE-009A-4A68-A7DF-17195AE7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60299-2A38-41E6-B40C-A7C86B8F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97627-BC3A-4CD1-BE8D-CCE44D15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B1549-3D56-4B62-9F18-1BCCE938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0A49B-A76F-4BB7-93D5-7282C36D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BE1-9BBB-4918-8448-969F2A66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243B7-79A3-446E-8D5F-8C82FC00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1392D-D24C-48A4-9D9A-51B87138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3319D-4DF1-40D8-B9D4-C26B0D13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DBFDA-FE2F-4A38-BAAC-01A57919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C391B-7AA8-436B-906E-C9DADE6C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67104-1822-40DA-909B-7AB3DFF0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EA0F7-5262-4EA1-B2E9-9FB01ED4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86717-9191-4FD4-9EDD-CFB05BA0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7C4A7-BC4A-48F9-916B-B8954D45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CC6FC-630B-4FFB-8BE4-EE43A318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B8F-181F-43BC-8682-F6342F2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C306C-ABFF-4465-8320-1A93FFD2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0696F-7500-419B-B03A-51F6357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EE9B8-4761-4D8D-92B7-09F49DE0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42CF2-BCD8-487D-8A4B-3DD22100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D9DD4-D212-4F8C-88DA-CAD30DC8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41AA3-04D4-4131-AA4C-B79A684A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6EE32-B9F2-47DF-8F51-DBA00417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3F35D-E7A7-4B56-8415-E4C0838C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D2C4F-F1D6-41D8-A398-2F2A2C4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00806-8528-4B64-8CB4-A71EFF5B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F9A9-325A-4585-961E-A92D7A0D5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EEAF-413E-45F3-B037-F4265328CF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4A63-ADE6-4F78-99A0-B3AABCC56A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9D6A-D315-4575-9AF3-FB664A34C8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8B22-F431-4F7C-A3D1-A240A02AB1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A648-91D8-4414-94B4-7833A4DC32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181F-212B-46EE-889A-EFEEE0480F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3D2A-2513-4F0E-9BE2-DA4D34397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6042-98C3-4C2B-82AB-FB2828F52E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8CC4-D88D-406C-A399-E97A033B02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9FF9-B9B6-4463-BA39-4D5693F1B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FDF3-F852-4AF6-903E-178DF4DDD1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76EC-B6E3-431F-A218-3D3801C9F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4508-7920-4477-9C7F-5128617CBB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8CCA-B4F3-4186-B867-EECFD50B17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91A0-1377-403A-BEE8-EE445993CB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3C8B-7AF1-4809-A480-EF66DEB99B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FE07-9B61-49CD-8FD6-EAB44C8EC4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16D0-780D-4FB3-BFF4-410989D9A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CB9F-EBAB-4A96-9F7F-859C98531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76B-08A3-4DA5-9C6F-0A1E51810E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7BD6-4A3B-47ED-AAC7-EA0B6B84B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7186-A07D-43EC-8F53-68A4FE63C3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8678-2F44-4E0E-BE2B-C82F273F72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A716-DC3E-4776-8330-0F607A4E1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F76A-76A4-4E82-8AC8-FE8EFE61AF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D238-9745-4EAC-A1CE-F99688AB92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FD7B-0097-4438-95FD-9AA959961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6459-AAE7-4A0E-89A8-F265EDB57D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339C-6E0E-436C-8105-F7A9DF4F8C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AB2F-AB56-4E54-BE8C-E84FCAAE89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A80C-6A59-4865-BA0A-62D391EBB2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DA55-E5A5-4CB1-A7F1-15B4C38FE1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CE0A-EC92-4C26-BD42-82037E9DE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E81C-1443-45B7-9516-E5A1CB490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3154-0E4E-4121-9F8B-E044EEC003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CEF6-DF4A-4EBD-AD7E-4FB967E29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C128-808A-41AF-9551-21D727CFAC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07A9-DAE2-4A79-B14A-BFAC9105D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8496-C06B-4668-86F9-F94368BB66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766960" y="3067200"/>
            <a:ext cx="36100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504720" y="1614600"/>
            <a:ext cx="81345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414360" y="843120"/>
            <a:ext cx="8315280" cy="5171760"/>
          </a:xfrm>
          <a:prstGeom prst="rect">
            <a:avLst/>
          </a:prstGeom>
          <a:ln w="0">
            <a:noFill/>
          </a:ln>
        </p:spPr>
      </p:pic>
      <p:sp>
        <p:nvSpPr>
          <p:cNvPr id="1069" name="矩形 2"/>
          <p:cNvSpPr/>
          <p:nvPr/>
        </p:nvSpPr>
        <p:spPr>
          <a:xfrm>
            <a:off x="1071720" y="1214280"/>
            <a:ext cx="750096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3"/>
          <p:cNvSpPr/>
          <p:nvPr/>
        </p:nvSpPr>
        <p:spPr>
          <a:xfrm>
            <a:off x="571680" y="1643040"/>
            <a:ext cx="314316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>
            <a:off x="1071720" y="2035080"/>
            <a:ext cx="7500960" cy="319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5"/>
          <p:cNvSpPr/>
          <p:nvPr/>
        </p:nvSpPr>
        <p:spPr>
          <a:xfrm>
            <a:off x="531720" y="2417760"/>
            <a:ext cx="8040960" cy="318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6"/>
          <p:cNvSpPr/>
          <p:nvPr/>
        </p:nvSpPr>
        <p:spPr>
          <a:xfrm>
            <a:off x="368280" y="2820960"/>
            <a:ext cx="8286840" cy="318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7"/>
          <p:cNvSpPr/>
          <p:nvPr/>
        </p:nvSpPr>
        <p:spPr>
          <a:xfrm>
            <a:off x="500040" y="3214800"/>
            <a:ext cx="8072640" cy="320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8"/>
          <p:cNvSpPr/>
          <p:nvPr/>
        </p:nvSpPr>
        <p:spPr>
          <a:xfrm>
            <a:off x="360360" y="3606840"/>
            <a:ext cx="8358120" cy="318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9"/>
          <p:cNvSpPr/>
          <p:nvPr/>
        </p:nvSpPr>
        <p:spPr>
          <a:xfrm>
            <a:off x="357120" y="4000680"/>
            <a:ext cx="8286840" cy="320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10"/>
          <p:cNvSpPr/>
          <p:nvPr/>
        </p:nvSpPr>
        <p:spPr>
          <a:xfrm>
            <a:off x="285840" y="4383000"/>
            <a:ext cx="8286840" cy="320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11"/>
          <p:cNvSpPr/>
          <p:nvPr/>
        </p:nvSpPr>
        <p:spPr>
          <a:xfrm>
            <a:off x="571680" y="4772160"/>
            <a:ext cx="3929040" cy="325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12"/>
          <p:cNvSpPr/>
          <p:nvPr/>
        </p:nvSpPr>
        <p:spPr>
          <a:xfrm>
            <a:off x="285840" y="5143680"/>
            <a:ext cx="8358120" cy="353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13"/>
          <p:cNvSpPr/>
          <p:nvPr/>
        </p:nvSpPr>
        <p:spPr>
          <a:xfrm>
            <a:off x="307800" y="5537160"/>
            <a:ext cx="750096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85640" y="1362240"/>
            <a:ext cx="8172720" cy="41335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214280" y="3143160"/>
            <a:ext cx="107172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4929120" y="307188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6143760" y="307188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1285920" y="3571920"/>
            <a:ext cx="10000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2849400" y="3500280"/>
            <a:ext cx="78588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3571920" y="4282920"/>
            <a:ext cx="1785960" cy="381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"/>
          <p:cNvSpPr/>
          <p:nvPr/>
        </p:nvSpPr>
        <p:spPr>
          <a:xfrm>
            <a:off x="5929200" y="4286160"/>
            <a:ext cx="192888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9"/>
          <p:cNvSpPr/>
          <p:nvPr/>
        </p:nvSpPr>
        <p:spPr>
          <a:xfrm>
            <a:off x="2000160" y="5072040"/>
            <a:ext cx="857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0"/>
          <p:cNvSpPr/>
          <p:nvPr/>
        </p:nvSpPr>
        <p:spPr>
          <a:xfrm>
            <a:off x="4071960" y="5072040"/>
            <a:ext cx="114300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1"/>
          <p:cNvSpPr/>
          <p:nvPr/>
        </p:nvSpPr>
        <p:spPr>
          <a:xfrm>
            <a:off x="5500800" y="503568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2"/>
          <p:cNvSpPr/>
          <p:nvPr/>
        </p:nvSpPr>
        <p:spPr>
          <a:xfrm>
            <a:off x="6572160" y="5072040"/>
            <a:ext cx="857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457200" y="2066760"/>
            <a:ext cx="8229600" cy="2724480"/>
          </a:xfrm>
          <a:prstGeom prst="rect">
            <a:avLst/>
          </a:prstGeom>
          <a:ln w="0">
            <a:noFill/>
          </a:ln>
        </p:spPr>
      </p:pic>
      <p:sp>
        <p:nvSpPr>
          <p:cNvPr id="1036" name="矩形 2"/>
          <p:cNvSpPr/>
          <p:nvPr/>
        </p:nvSpPr>
        <p:spPr>
          <a:xfrm>
            <a:off x="3225960" y="242568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3"/>
          <p:cNvSpPr/>
          <p:nvPr/>
        </p:nvSpPr>
        <p:spPr>
          <a:xfrm>
            <a:off x="4917960" y="2403360"/>
            <a:ext cx="150048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4"/>
          <p:cNvSpPr/>
          <p:nvPr/>
        </p:nvSpPr>
        <p:spPr>
          <a:xfrm>
            <a:off x="6715080" y="2357280"/>
            <a:ext cx="1500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5"/>
          <p:cNvSpPr/>
          <p:nvPr/>
        </p:nvSpPr>
        <p:spPr>
          <a:xfrm>
            <a:off x="3343320" y="3189240"/>
            <a:ext cx="1085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6"/>
          <p:cNvSpPr/>
          <p:nvPr/>
        </p:nvSpPr>
        <p:spPr>
          <a:xfrm>
            <a:off x="4721400" y="3182760"/>
            <a:ext cx="857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7"/>
          <p:cNvSpPr/>
          <p:nvPr/>
        </p:nvSpPr>
        <p:spPr>
          <a:xfrm>
            <a:off x="6418440" y="3975120"/>
            <a:ext cx="85716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8"/>
          <p:cNvSpPr/>
          <p:nvPr/>
        </p:nvSpPr>
        <p:spPr>
          <a:xfrm>
            <a:off x="965160" y="4368960"/>
            <a:ext cx="12146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466560" y="1647720"/>
            <a:ext cx="8210880" cy="356256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1217520" y="2425680"/>
            <a:ext cx="6500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1103400" y="3186000"/>
            <a:ext cx="650088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4"/>
          <p:cNvSpPr/>
          <p:nvPr/>
        </p:nvSpPr>
        <p:spPr>
          <a:xfrm>
            <a:off x="932040" y="3975120"/>
            <a:ext cx="7215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5"/>
          <p:cNvSpPr/>
          <p:nvPr/>
        </p:nvSpPr>
        <p:spPr>
          <a:xfrm>
            <a:off x="746280" y="4757760"/>
            <a:ext cx="6500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76280" y="704880"/>
            <a:ext cx="81914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471600" y="1967040"/>
            <a:ext cx="8200800" cy="292392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4000680" y="2286000"/>
            <a:ext cx="4357440" cy="446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6715080" y="2786040"/>
            <a:ext cx="200016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571680" y="3143160"/>
            <a:ext cx="99684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5"/>
          <p:cNvSpPr/>
          <p:nvPr/>
        </p:nvSpPr>
        <p:spPr>
          <a:xfrm>
            <a:off x="3537000" y="3546360"/>
            <a:ext cx="30002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6"/>
          <p:cNvSpPr/>
          <p:nvPr/>
        </p:nvSpPr>
        <p:spPr>
          <a:xfrm>
            <a:off x="3000240" y="3989520"/>
            <a:ext cx="3143520" cy="296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7"/>
          <p:cNvSpPr/>
          <p:nvPr/>
        </p:nvSpPr>
        <p:spPr>
          <a:xfrm>
            <a:off x="4643280" y="4357800"/>
            <a:ext cx="257184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447840" y="1457280"/>
            <a:ext cx="8248320" cy="3943440"/>
          </a:xfrm>
          <a:prstGeom prst="rect">
            <a:avLst/>
          </a:prstGeom>
          <a:ln w="0">
            <a:noFill/>
          </a:ln>
        </p:spPr>
      </p:pic>
      <p:sp>
        <p:nvSpPr>
          <p:cNvPr id="1057" name="矩形 2"/>
          <p:cNvSpPr/>
          <p:nvPr/>
        </p:nvSpPr>
        <p:spPr>
          <a:xfrm>
            <a:off x="2583000" y="1506600"/>
            <a:ext cx="2071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1189080" y="226548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7547040" y="2279520"/>
            <a:ext cx="9540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5"/>
          <p:cNvSpPr/>
          <p:nvPr/>
        </p:nvSpPr>
        <p:spPr>
          <a:xfrm>
            <a:off x="582480" y="2714760"/>
            <a:ext cx="1643040" cy="320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6"/>
          <p:cNvSpPr/>
          <p:nvPr/>
        </p:nvSpPr>
        <p:spPr>
          <a:xfrm>
            <a:off x="4000680" y="2657520"/>
            <a:ext cx="2571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7"/>
          <p:cNvSpPr/>
          <p:nvPr/>
        </p:nvSpPr>
        <p:spPr>
          <a:xfrm>
            <a:off x="2714760" y="3421080"/>
            <a:ext cx="264312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8"/>
          <p:cNvSpPr/>
          <p:nvPr/>
        </p:nvSpPr>
        <p:spPr>
          <a:xfrm>
            <a:off x="4151160" y="3863880"/>
            <a:ext cx="207180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9"/>
          <p:cNvSpPr/>
          <p:nvPr/>
        </p:nvSpPr>
        <p:spPr>
          <a:xfrm>
            <a:off x="2071800" y="4572000"/>
            <a:ext cx="4429080" cy="411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476280" y="1628640"/>
            <a:ext cx="81914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6:3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